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834-99FF-4ED7-ABF1-107F4203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5E7-8C8A-4A6D-9A54-BBD4BF3E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C8D-7999-46FE-92A6-DDB4B11E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BA0-E383-4CED-9FB7-5B0C88D8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655-332F-4474-BDF7-5409CCC9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1F48-246E-4827-92C7-8314CAB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DE8D-B433-4B4E-BA3B-ED38A42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3878-C13C-4E6D-9D55-90179FB2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BCB9-61DD-43F2-A0D2-6CACFC8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8D84-CF9D-4A91-BD89-5AC5CA55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59BF-71C1-4403-9DC8-2005193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671-58A2-4142-84E2-508E8D5D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6C85-E108-4F93-A340-6B3908D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C7DF-DFAE-47A5-ACE1-E2F249D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3B8-DDF8-4030-A571-BCAB980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611A-8B18-401F-ABC5-AE7F105E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9B9-D6D3-42D5-93AD-B17EE568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D55-8571-41AC-B9AD-0ACB6CB4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17B-034E-4161-BA56-8C1B3C59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CF3-CCDF-4663-8D79-DCBC7C1A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9C5-718C-45B7-B0D6-9D917A30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3A5-01ED-4D57-8A46-C32A7B5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3CC-1E1B-4D3C-8D05-6FDD6985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BC9-4A7B-4244-A3A3-9A2F092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BAE-5B6E-4596-A950-8E4F74B6E9D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63C9-7DD3-4966-8F12-7138591D8A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oppenheime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0" y="51055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auhaus 93"/>
              </a:rPr>
              <a:t>N.G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auhaus 93"/>
              </a:rPr>
              <a:t>4/27/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auhaus 93"/>
              </a:rPr>
              <a:t>Period 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752480" y="990720"/>
            <a:ext cx="6248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103"/>
                    </a:gs>
                    <a:gs pos="50000">
                      <a:srgbClr val="ff0000"/>
                    </a:gs>
                    <a:gs pos="100000">
                      <a:srgbClr val="ffe103"/>
                    </a:gs>
                  </a:gsLst>
                  <a:lin ang="13500000"/>
                </a:gradFill>
                <a:latin typeface="Impact"/>
              </a:rPr>
              <a:t>Atomic Bom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103"/>
                  </a:gs>
                  <a:gs pos="50000">
                    <a:srgbClr val="ff0000"/>
                  </a:gs>
                  <a:gs pos="100000">
                    <a:srgbClr val="ffe103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51" name=""/>
          <p:cNvSpPr/>
          <p:nvPr/>
        </p:nvSpPr>
        <p:spPr>
          <a:xfrm rot="1656600">
            <a:off x="417600" y="4614120"/>
            <a:ext cx="48276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ound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Heavy Metal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4-7-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freeplaymusic.com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595440" y="4778280"/>
            <a:ext cx="785520" cy="179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997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7997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Oppenheimer"/>
          <p:cNvPicPr/>
          <p:nvPr/>
        </p:nvPicPr>
        <p:blipFill>
          <a:blip r:embed="rId1"/>
          <a:stretch/>
        </p:blipFill>
        <p:spPr>
          <a:xfrm>
            <a:off x="457200" y="1905120"/>
            <a:ext cx="5715000" cy="1761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14400" y="4572000"/>
            <a:ext cx="7315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Lemelsons MIT Program, J. Robert Oppenheimer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y 10 2010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web.mit.edu/invent/iow/oppenheimer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bert Oppenheimer invented the atomic bomb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Invention: Atomic Bom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 atomic bomb was a devastating sight when explo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It was made in the 1940’s by Robert Oppenheim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 first atomic bomb made was tested in a desert in New Mexico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 explosion had changed the worl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Then 2 bombs were dropped in Japan cit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Japan then surrendered and that was the end of WWI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6019920" cy="2670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Inventor: Robert Oppenheim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Robert Oppenheimer made bomb during the 1940’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It was the time of WWI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He was concerned about Germany making powerful weapons and using them against the U.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So Robert was strong against it and started to make a new powerful weapon, the atomic bomb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When the atomic bomb droppings were finished, Robert Oppenheimer was awarded the Enrico Fermi Awar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Bauhaus 93"/>
              </a:rPr>
              <a:t>Robert Oppenheimer retired from work but then died in1967 from throat canc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1:37Z</dcterms:created>
  <dc:creator>install</dc:creator>
  <dc:description/>
  <dc:language>en-US</dc:language>
  <cp:lastModifiedBy>install</cp:lastModifiedBy>
  <dcterms:modified xsi:type="dcterms:W3CDTF">2010-05-12T13:12:56Z</dcterms:modified>
  <cp:revision>16</cp:revision>
  <dc:subject/>
  <dc:title>Slide 1</dc:title>
</cp:coreProperties>
</file>